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60DD-6C5A-46B3-906A-EBFD7168B3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Химия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 Новочебоксарск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Лицей№18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ва Т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B96C-FA7F-41FD-BF18-BFE39699432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A56F-4836-4320-B896-E2FB773932F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A4F1-DD58-42D7-A801-0A971E8091A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рактический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A2F9-9D82-485D-883E-3E8168682D8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Цели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DB06-06BD-4033-8D66-25C100321A1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сширить знания учащихся по проблеме пит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04BF-AABE-41DB-8FC2-E0630C3DCB4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Фер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46A1-D85A-4162-AACE-168DA9EB7A6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6EF6-9452-4769-A7AC-128A88768D8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80"/>
                </a:solidFill>
                <a:latin typeface="Calibri"/>
              </a:rPr>
              <a:t>Классификация витами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6BDA-890A-4702-9055-B02E85C7013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2755-DC8A-4D2E-9DE6-8EC7CACE7D4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ная недостато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понимают практически полное отсутствие какого-либо витамина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0FA5-A0CD-42C5-B33D-DB97AF4E496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ища, которую мы ед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блема пит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 Консерв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серва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E4B5-695F-4516-9D88-EAED1FC87F0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AE1-9E77-4DC7-BE0C-400516E4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3F8-5924-4D31-B433-754B5C24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33F-C727-4888-A10C-1675B3C6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F66-B8A9-4988-B110-C4840617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38A8-9663-4A46-9D35-35FBFB6C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7060-1C5F-478F-9B02-1941BF62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B9CE-29F7-43C7-AA31-94D40965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141E-2853-41FB-8704-96CF1560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C182-26EB-48C2-81C8-A0CF0839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53DF-8156-4A10-9A40-52A4384E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7B56-2EDF-4EB4-AE53-A04664EC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B3C-BD9A-4966-B9E3-EA8321DE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725E-C459-4A18-BB14-2F6AD1AC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EF81-7F34-4B19-A381-25B8FF3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881B-3955-45F7-A111-4770AAAD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9606-013F-42C3-B5D6-1DC8F0B8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3AA6-38E7-4104-A56D-B56D2B9C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E08-DC07-45E1-9C90-4B9CB54E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008-3AD2-480C-BCFE-5AF83CEA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B78-D4FC-462C-9976-BE2F5E8A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424-ED3F-4305-B6F2-548969C9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32A-7B32-4FC1-AE34-11A99D53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6DB-1147-4C42-816B-D8215A2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51A-4123-45EC-BF0E-D419017C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B434-D775-4593-BDAE-6DCBECF19D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4140-6602-4902-A62D-50B39A27F7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Comic Sans MS"/>
              </a:rPr>
              <a:t>Химия жизни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Р Новочебоксарск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Лицей№18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лова Т.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667548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 (усиливают или восстанавливают цвет продук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2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нты (повышают срок хранения продуктов, защищают их от микробов, грибков, бактериофагов. Химически стерилизующие добавки при созревании вин, дезинфектанты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-3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и (защищают от окисле­ния, например от прогоркания жиров и изменения цве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-4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ы (сохраняют заданную консистенцию), загустители (повышают вязкост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-5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 (создают однородную смесь несмешиваемых продуктов, например воды и масл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6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и вкуса и аром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-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гасители (предупреждают или снижают образование пен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557360"/>
          <a:ext cx="8229600" cy="5237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ое дей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 105, 111, 121 (краситель цитрусовый красный 2), 123 (красный амарант), 125, 126, 130, 152, 240 (консервант формальдегид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ён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110,120,124,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105,121,123,125, 126, 130, 131,142, 152, 210, 211 (бензоат натрия), 213-217,240,330 (лимонная кислота), 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локачествен­ные опух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-226, 320-322, 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аболевания желудочно-кишеч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231,232,239, 311-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-173,320-3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болезни печени и п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-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ые для кож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расстройство желуд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 3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ают содержание холестер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рактический выво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Цели работы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Задачи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ить знания учащихся по проблеме питани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Фермент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рменты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итам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vitamin"/>
          <p:cNvPicPr/>
          <p:nvPr/>
        </p:nvPicPr>
        <p:blipFill>
          <a:blip r:embed="rId2"/>
          <a:stretch/>
        </p:blipFill>
        <p:spPr>
          <a:xfrm>
            <a:off x="4643280" y="1341360"/>
            <a:ext cx="3959280" cy="2608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1027m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643280" y="393372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Times New Roman"/>
              </a:rPr>
              <a:t>Классификация витамин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Organization Chart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47" name="Organization Chart 15"/>
          <p:cNvGrpSpPr/>
          <p:nvPr/>
        </p:nvGrpSpPr>
        <p:grpSpPr>
          <a:xfrm>
            <a:off x="468360" y="1557360"/>
            <a:ext cx="8566920" cy="4529160"/>
            <a:chOff x="468360" y="1557360"/>
            <a:chExt cx="8566920" cy="4529160"/>
          </a:xfrm>
        </p:grpSpPr>
        <p:cxnSp>
          <p:nvCxnSpPr>
            <p:cNvPr id="148" name="_s1030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7978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31"/>
            <p:cNvCxnSpPr>
              <a:stCxn id="152" idx="0"/>
              <a:endCxn id="150" idx="2"/>
            </p:cNvCxnSpPr>
            <p:nvPr/>
          </p:nvCxnSpPr>
          <p:spPr>
            <a:xfrm flipV="1">
              <a:off x="4751640" y="3368520"/>
              <a:ext cx="396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32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27990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033"/>
            <p:cNvSpPr/>
            <p:nvPr/>
          </p:nvSpPr>
          <p:spPr>
            <a:xfrm>
              <a:off x="3466800" y="155736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3366"/>
                  </a:solidFill>
                  <a:latin typeface="Comic Sans MS"/>
                </a:rPr>
                <a:t>Витамины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46836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Comic Sans MS"/>
                </a:rPr>
                <a:t>Вод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витамин С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ы группы В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 РР)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346680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66"/>
                  </a:solidFill>
                  <a:latin typeface="Comic Sans MS"/>
                </a:rPr>
                <a:t>Жир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А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Е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>
              <a:off x="646524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итаминоподобны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 </a:t>
              </a: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ещест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Р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липоевая кислота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836640"/>
          <a:ext cx="8713800" cy="5945040"/>
        </p:xfrm>
        <a:graphic>
          <a:graphicData uri="http://schemas.openxmlformats.org/drawingml/2006/table">
            <a:tbl>
              <a:tblPr/>
              <a:tblGrid>
                <a:gridCol w="1008000"/>
                <a:gridCol w="4716360"/>
                <a:gridCol w="29894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ся в продукта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ся дл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жирная рыба (сельдь, макрель), яйца, молочные продукты, растительное мас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зистых оболочек, здоровья кожи, зрения, роста, иммунной сист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: шпинат, брокколи, морковь, капуста, горох, помидоры; фрукты: дыня, персик; ягоды: шиповник, облепиха, ряб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ния, иммунной системы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рис, фасоль, горох, орехи, черный хлеб, зерновые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, выработки энергии, функционирования нервов и муску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тица, шпинат, брокколи, дрожжи, грибы, молочные продукты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организма, выработки энер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птица яйца, рыба, орехи, продукты из немолотого зерна, молоко, зеленые овощи (зеленый лук, броккол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отки энергии, снижения холестерина в кро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, яичный желток, продукты из зерна, фасоль, арахис, картоф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я кожи, роста волос, усвоения белков, жиров и углев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яичный желток, хлеб грубого помола, дрожжи, арахис, картофель, овощ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я жиров и углеводов, работы фер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очки, яйца, креветки, молоко, сыр, свек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и анемии, здоровья нервной системы, работы клеток организ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жие овощи и фрукты, особенно черная смородина, клюква, цитрусовые, шиповник, пер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ов и кожи, роста кожи, костей, хрящей,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олоко, сыр, жирная рыба, рыбий жир, солнц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зубов и костей, усвоение кальция и фосф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жирная рыба, мясо, печень, растительные масла, орехи, продукты из немолотого зер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тная защита клеток организма от окисления, заживления ко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ная недостаточност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итаминная недостаточ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понимают практически полное отсутствие какого-либо витамина в организм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ипо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ища, которую мы едим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облема пит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Консерван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онсервант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53:33Z</dcterms:created>
  <dc:creator>School</dc:creator>
  <dc:description/>
  <dc:language>en-US</dc:language>
  <cp:lastModifiedBy>LEGION</cp:lastModifiedBy>
  <dcterms:modified xsi:type="dcterms:W3CDTF">2015-05-12T08:21:54Z</dcterms:modified>
  <cp:revision>10</cp:revision>
  <dc:subject/>
  <dc:title>Химия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